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gif" ContentType="image/gif"/>
  <Override PartName="/ppt/media/image14.gif" ContentType="image/gif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gif" ContentType="image/gif"/>
  <Override PartName="/ppt/media/image10.gif" ContentType="image/gif"/>
  <Override PartName="/ppt/media/image6.gif" ContentType="image/gif"/>
  <Override PartName="/ppt/media/image11.gif" ContentType="image/gif"/>
  <Override PartName="/ppt/media/image7.gif" ContentType="image/gif"/>
  <Override PartName="/ppt/media/image12.gif" ContentType="image/gif"/>
  <Override PartName="/ppt/media/image8.gif" ContentType="image/gif"/>
  <Override PartName="/ppt/media/image13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DD18B-51BD-4A48-8ED2-B71528F2E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74249-5270-43A1-A00F-779A5DA65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65692-F9AB-4830-9038-42B19E3D9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C287C-225C-4000-868B-1633CF96E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097E0-9051-49F0-866E-C67021CD1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2FEC6-245F-4BD2-AA96-EAC0F9F9C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96A09-B2C3-4826-B37A-86A6BD75B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5AA59-ADE9-4736-8D19-2A534BB85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DE005-6D10-464B-B97C-520E2D4FD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0A04F-FA80-4FD6-A1C8-A9CF23736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AD758-45A5-4CFD-9325-D62AAB5F3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0D2F1-18C8-4235-BD0E-9CB013726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D3390-38EB-4DBA-96CB-57006DB8AA66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117C8-EC4A-4579-ABFE-DB8B60EE8DF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H:\Documents and Settings\Aida\Рабочий стол\Рисунок1м.jpg"/>
          <p:cNvPicPr/>
          <p:nvPr/>
        </p:nvPicPr>
        <p:blipFill>
          <a:blip r:embed="rId1"/>
          <a:stretch/>
        </p:blipFill>
        <p:spPr>
          <a:xfrm>
            <a:off x="142920" y="195120"/>
            <a:ext cx="8870760" cy="65199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332000" y="1785960"/>
            <a:ext cx="7083360" cy="215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r>
              <a:rPr b="1" i="1" lang="ru-RU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минутка  со снеговичком</a:t>
            </a:r>
            <a:br>
              <a:rPr sz="6600"/>
            </a:b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Kaby_ne_bylo_zimy_detskaya.kar.mid" descr=""/>
          <p:cNvPicPr/>
          <p:nvPr/>
        </p:nvPicPr>
        <p:blipFill>
          <a:blip r:embed="rId2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4" name="Рисунок 5" descr="48.gifш.gif"/>
          <p:cNvPicPr/>
          <p:nvPr/>
        </p:nvPicPr>
        <p:blipFill>
          <a:blip r:embed="rId3"/>
          <a:stretch/>
        </p:blipFill>
        <p:spPr>
          <a:xfrm>
            <a:off x="1071720" y="3429000"/>
            <a:ext cx="2125440" cy="2428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CFCA2-6678-4086-87E1-051CA2700AC9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2AC14-429B-431B-AC05-15507DF542F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Рисунок 3" descr="0_1c4fc_ed98c28a_L.gif"/>
          <p:cNvPicPr/>
          <p:nvPr/>
        </p:nvPicPr>
        <p:blipFill>
          <a:blip r:embed="rId1"/>
          <a:stretch/>
        </p:blipFill>
        <p:spPr>
          <a:xfrm>
            <a:off x="1428840" y="1643040"/>
            <a:ext cx="6583320" cy="371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E0FCC-08E7-47FF-8F23-2222DB40772A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821F0-EC80-4667-A227-DB8A069A8AE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Рисунок 3" descr="0_1e324_871493c4_XL.gif"/>
          <p:cNvPicPr/>
          <p:nvPr/>
        </p:nvPicPr>
        <p:blipFill>
          <a:blip r:embed="rId1"/>
          <a:stretch/>
        </p:blipFill>
        <p:spPr>
          <a:xfrm>
            <a:off x="2286000" y="1500120"/>
            <a:ext cx="4643280" cy="374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B5A30-A20D-49C3-B5B2-1392B970F2AB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3EB1C-CF0A-4B91-9E1E-E6DD8AD324C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Рисунок 5" descr="new9.gif"/>
          <p:cNvPicPr/>
          <p:nvPr/>
        </p:nvPicPr>
        <p:blipFill>
          <a:blip r:embed="rId1"/>
          <a:stretch/>
        </p:blipFill>
        <p:spPr>
          <a:xfrm>
            <a:off x="2643120" y="714240"/>
            <a:ext cx="4135680" cy="557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82159-EB3D-49F6-A981-84DE9CE09A05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8CC22-8D17-405A-9420-5430FB2326B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Рисунок 5" descr="28.gif"/>
          <p:cNvPicPr/>
          <p:nvPr/>
        </p:nvPicPr>
        <p:blipFill>
          <a:blip r:embed="rId1"/>
          <a:stretch/>
        </p:blipFill>
        <p:spPr>
          <a:xfrm>
            <a:off x="3000240" y="1500120"/>
            <a:ext cx="3399120" cy="4071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12F05-632D-47B3-B20C-379BFD190B3A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C36F7-41BA-42E6-8C38-F75ABA7B8A8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Рисунок 3" descr="new8.gif"/>
          <p:cNvPicPr/>
          <p:nvPr/>
        </p:nvPicPr>
        <p:blipFill>
          <a:blip r:embed="rId1"/>
          <a:stretch/>
        </p:blipFill>
        <p:spPr>
          <a:xfrm>
            <a:off x="2500200" y="214200"/>
            <a:ext cx="4214880" cy="625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E94A3-B9ED-4836-B941-25BA5FC1A84C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C8DB0-D12E-4261-8F9E-AC4B9EB63B0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Рисунок 3" descr="7.gifт.gif"/>
          <p:cNvPicPr/>
          <p:nvPr/>
        </p:nvPicPr>
        <p:blipFill>
          <a:blip r:embed="rId1"/>
          <a:stretch/>
        </p:blipFill>
        <p:spPr>
          <a:xfrm>
            <a:off x="2571840" y="857160"/>
            <a:ext cx="4071960" cy="5042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F6C96-A040-4802-9B93-504084A0E813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B9B3D-974D-421D-8081-0107644D152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Рисунок 3" descr="36.gif"/>
          <p:cNvPicPr/>
          <p:nvPr/>
        </p:nvPicPr>
        <p:blipFill>
          <a:blip r:embed="rId1"/>
          <a:stretch/>
        </p:blipFill>
        <p:spPr>
          <a:xfrm>
            <a:off x="2714760" y="1143000"/>
            <a:ext cx="3792240" cy="464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0D2C4-AD44-4553-8761-EC178949D06E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760DC-87F6-4AB8-9FF5-FA5ADB1E67E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Рисунок 3" descr="e59a37aff0f7151e9481f8195c66f655.gif"/>
          <p:cNvPicPr/>
          <p:nvPr/>
        </p:nvPicPr>
        <p:blipFill>
          <a:blip r:embed="rId1"/>
          <a:stretch/>
        </p:blipFill>
        <p:spPr>
          <a:xfrm>
            <a:off x="3000240" y="928800"/>
            <a:ext cx="2895840" cy="471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4F698-AEDA-445C-8082-DA8266AA2DA6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EF41C-2635-4F23-B5C3-ADAF3E2FC95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Рисунок 3" descr="gallery_19_121_3145.gif"/>
          <p:cNvPicPr/>
          <p:nvPr/>
        </p:nvPicPr>
        <p:blipFill>
          <a:blip r:embed="rId1"/>
          <a:stretch/>
        </p:blipFill>
        <p:spPr>
          <a:xfrm>
            <a:off x="2786040" y="1071720"/>
            <a:ext cx="3529080" cy="4214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93B2A-EA47-4B76-9F36-376E9CB44A0A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ADA0F-B9DA-452F-BB58-EB83DD13033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Рисунок 3" descr="25.gifп.gif"/>
          <p:cNvPicPr/>
          <p:nvPr/>
        </p:nvPicPr>
        <p:blipFill>
          <a:blip r:embed="rId1"/>
          <a:stretch/>
        </p:blipFill>
        <p:spPr>
          <a:xfrm>
            <a:off x="2286000" y="1571760"/>
            <a:ext cx="4357800" cy="4357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3T16:12:08Z</dcterms:created>
  <dc:creator>РУСТЕМКА</dc:creator>
  <dc:description>http://aida.ucoz.ru</dc:description>
  <dc:language>en-US</dc:language>
  <cp:lastModifiedBy>Елена</cp:lastModifiedBy>
  <dcterms:modified xsi:type="dcterms:W3CDTF">2014-01-30T10:33:37Z</dcterms:modified>
  <cp:revision>3</cp:revision>
  <dc:subject/>
  <dc:title>Новогодняя  физминутка  </dc:title>
</cp:coreProperties>
</file>